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E39-3C6C-4CEF-AB8A-8A61635E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CBE-4E20-40BB-BC9E-A9B13611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6E7E-881D-45A6-A3AF-7AA48E2C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661-E7E5-4D53-80E5-EE58524F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326-8E5A-48CC-8BE4-7A901E61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968-BEC5-44CF-9BB3-1890F9B4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2BD-A649-4CF1-813E-7E46D1A2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A8B-66C1-4B29-B800-851C761C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E00-74A0-4257-9C2E-17B053C6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3C92-3B29-41C2-8CDE-5A28611A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5E1-8447-4341-BE63-FE81F49E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EB7-A8E3-42A7-A35C-A1220059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6840E-EE47-4D6F-B4A9-B9EE57C1C0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EFFECTS OF NUCLE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POWER PLANT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ON WATER SUPPL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3600720" cy="234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00720" y="5040360"/>
            <a:ext cx="360036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SO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Nuclear power plants need water, so they use to take 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nd to reject it polluted, in riv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Nuclear power plants make earthquakes, that damage pipe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780000" y="4500720"/>
            <a:ext cx="2519280" cy="2339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4bd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W DO WE KNOW I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AS RADIOACTVE WAST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cientists mesur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ent of radioactive was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ent of oxygen dissol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du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eb61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hoto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ikipedia (Pages 1-5-6-7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fmadrid (Page 3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freeinfosociety.com (Page 4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 Routard (Page 7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ravelpod (Page 8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ity of Bron (Page 8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ciencesnaturelles.be (Page 9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Geo (Page 10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INIER Capuc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ICHON Chlo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OREAU Re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99280" y="3600360"/>
            <a:ext cx="2160720" cy="1596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uclear power plant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ow work a nuclear power plant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ench low about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arning! Tsunam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s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ow do we know if water has radioactive wast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0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 fill="hold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UCLEAR POWER PLANT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ach point represents a nuclear power pl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979640"/>
            <a:ext cx="5124600" cy="5371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W WORK A NUCLEAR POWER PLAN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19280" y="2874960"/>
            <a:ext cx="6840360" cy="4145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FRENCH LOW ABOUT POL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fr-FR" sz="26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un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2001 : Low « Polluter, Paying 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fter many debates, the low was created for people wh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ollute water ; it is a ta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emple : Farmers who use fertilizer pay this tax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622680" y="4680000"/>
            <a:ext cx="285732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..but nuclear power plants and every nuclear infrastructure, that re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adioactive wastes, don't..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61960" y="4859280"/>
            <a:ext cx="3397320" cy="234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40360" y="539640"/>
            <a:ext cx="3576600" cy="2683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..so they use to reject too much waste without paying anything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: in reprocessing point of la Hague, wastes are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 the English channel or in air. And because of these rejects, ri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e.Helen that flows just near the site is poll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80000" y="4859280"/>
            <a:ext cx="4137120" cy="251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203040"/>
            <a:ext cx="3780000" cy="24973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Nuclear power plants and reprocessing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re not the only things which reject radioactive wastes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Hopitals, military camps do it even if simple and cheap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uld stop th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hese don't pay the tax too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2160720"/>
            <a:ext cx="1619280" cy="2879640"/>
          </a:xfrm>
          <a:prstGeom prst="triangle">
            <a:avLst>
              <a:gd name="adj" fmla="val 50000"/>
            </a:avLst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9640" y="5040360"/>
            <a:ext cx="2773440" cy="2340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60720" y="411120"/>
            <a:ext cx="3522600" cy="2289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ARNING! TSUNAM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sunami is a problem when nuclear power plants are too near from the s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hem the see come into land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t takes all wastes it find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cluding radioactive wast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nd bring them back in the oce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319640" y="4680000"/>
            <a:ext cx="1979640" cy="2620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